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25370"/>
        <c:axId val="63067148"/>
      </c:barChart>
      <c:catAx>
        <c:axId val="54025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67148"/>
        <c:crosses val="autoZero"/>
        <c:auto val="1"/>
        <c:lblAlgn val="ctr"/>
        <c:lblOffset val="100"/>
        <c:noMultiLvlLbl val="0"/>
      </c:catAx>
      <c:valAx>
        <c:axId val="63067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25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00E-6925-4EFF-9F18-23C46DB3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55D-09FB-4449-B15D-9FFE7550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8BC-27F3-4A01-A6CF-8E4060F3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B5C-EBA7-486B-A881-081964E2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CD1-7C83-4772-9432-E3870A8E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294-5EA4-4D71-83BE-CA590341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79B-6672-4D6E-8F3B-1A8B2692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B58-151F-4BAE-B034-C353D3FB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4DEF-72C7-4AB3-8FDD-5C1DE02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97B-5D14-4164-850B-6C4A53E3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4E3-BCD9-4889-9856-A908C43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21B-AF3C-468A-AF5B-8DAE778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589C3-C052-4CBE-B36A-90CD466DBD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