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57883"/>
        <c:axId val="12474948"/>
      </c:barChart>
      <c:catAx>
        <c:axId val="67857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74948"/>
        <c:crosses val="autoZero"/>
        <c:auto val="1"/>
        <c:lblAlgn val="ctr"/>
        <c:lblOffset val="100"/>
        <c:noMultiLvlLbl val="0"/>
      </c:catAx>
      <c:valAx>
        <c:axId val="12474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7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CFE-FFFE-40FD-89A3-A5FDAE9C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14-D18A-41A2-B2FE-C454AF6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971-19A5-4802-A365-FA0F4378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FEA-9E76-48E5-9EB3-BAC8BEB5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B23-720E-49E7-B82B-BA99A4DB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8FB-FF98-49B8-B273-3444DF0F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4AF-10C7-4514-9EB1-C9B3FD9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B6E-832A-4F2F-A90A-006AE650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CBE-1140-4DC4-9916-55191C7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BFC-A206-4133-93FB-A850CC8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164-2B83-4D85-AC55-1F4C70C2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123-C6F8-40DC-BBB0-26021131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C76A3-7622-4BB6-AB2A-DB8352C48C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