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17233"/>
        <c:axId val="86906633"/>
      </c:barChart>
      <c:catAx>
        <c:axId val="63917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06633"/>
        <c:crosses val="autoZero"/>
        <c:auto val="1"/>
        <c:lblAlgn val="ctr"/>
        <c:lblOffset val="100"/>
        <c:noMultiLvlLbl val="0"/>
      </c:catAx>
      <c:valAx>
        <c:axId val="8690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17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596-6AA7-4F02-AEB9-556372DF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193-64A0-4F5E-8CA8-36F2A2F2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AA2-CD2C-43EE-A359-A9BD9428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380-88C8-4E78-99F3-5CF783A3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E9A-2144-4DCE-80F2-C415891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1D8-589E-40FE-A1C2-75ABB3FB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DB3-08BC-4B2A-B31B-6C8009D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061-63F5-4E58-BC6A-64ED0A2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218-9DF0-4F64-9772-2F030D39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B09-12A6-495F-B4BB-E7C6419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ACD-7E6C-4CE7-8467-A64D34A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4C3-9261-44DB-8369-9DECC4E8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BCF13-CE24-4309-A336-25B753DEC9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