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94418"/>
        <c:axId val="78137504"/>
      </c:barChart>
      <c:catAx>
        <c:axId val="81794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37504"/>
        <c:crosses val="autoZero"/>
        <c:auto val="1"/>
        <c:lblAlgn val="ctr"/>
        <c:lblOffset val="100"/>
        <c:noMultiLvlLbl val="0"/>
      </c:catAx>
      <c:valAx>
        <c:axId val="78137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94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CB5-4B6F-4EC2-BDC5-47D367A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8E2-D44A-4FE3-AC7F-CC63DB5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C71-D3DB-4D6E-A314-1B306998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419-CD27-4F8E-975B-B9BEDBAA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C6-01FD-44EF-8AB2-9DD2A94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902-EBE8-4D3A-B700-D9E3D2E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73D-3CAC-4D50-9F4B-169A29B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6B8-5B84-47D3-B794-DC8D324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E5B-9B3A-40E5-9314-572C554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9C3-357F-44CA-9CA5-7F77FF3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FE3-AD11-4B62-8B4C-8EA7732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9FE-21FC-4827-8741-1D5E876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ED510-D3AD-4A2F-A5DF-A0ABDC893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