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585780"/>
        <c:axId val="3361579"/>
      </c:barChart>
      <c:catAx>
        <c:axId val="765857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61579"/>
        <c:crosses val="autoZero"/>
        <c:auto val="1"/>
        <c:lblAlgn val="ctr"/>
        <c:lblOffset val="100"/>
        <c:noMultiLvlLbl val="0"/>
      </c:catAx>
      <c:valAx>
        <c:axId val="33615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5857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C186-F4FD-4F12-B172-8E2A3B6C9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78A1-FECD-498C-A5D6-6513F302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B6CD-C12C-4254-BD08-C99F3B8E1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979C-AA84-46CF-9253-CFF1BC8B9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6E97-A9B4-44FE-8F6F-28C93680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3513-BF39-4DEB-8F95-72F8248B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1C37-627D-4D87-AEB6-DDBFDC5A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E9B7-6878-4F55-AB41-BCCDD81C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7AF5-2CE0-4A70-A5DB-6FADA5A2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F456-C18D-41D2-9ECC-4916C516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BABB-AC7A-4BA5-91A2-EC7ABEB0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C533-1F62-4BDE-B6FA-AE125DE3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59BEF-311A-4A1B-900B-CAB63A04FF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