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57350"/>
        <c:axId val="77329660"/>
      </c:barChart>
      <c:catAx>
        <c:axId val="12157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29660"/>
        <c:crosses val="autoZero"/>
        <c:auto val="1"/>
        <c:lblAlgn val="ctr"/>
        <c:lblOffset val="100"/>
        <c:noMultiLvlLbl val="0"/>
      </c:catAx>
      <c:valAx>
        <c:axId val="7732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57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C77-1D48-4561-8297-05396F0E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4BC-A39A-4AF2-839B-4AD3885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848-2FE0-4F7F-B149-A23B016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29F-7021-4D52-8B03-4B0EDC4B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A65-C52C-4B4A-93B7-4899A0D8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CD9-B8F8-4704-9228-66CF0B43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39C-C4BD-4C84-8705-1450AD1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3B5-4B25-481C-8699-E28B44E6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78F-ACF5-4617-84B2-275E89A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A62-8CD6-412D-B098-9CD4E1B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94B-7C12-4A88-8FE3-6394171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551-0B13-433D-A8C8-D9053C9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1AAE-4A4D-422E-8C3C-EDC280DAC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