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110518"/>
        <c:axId val="69878781"/>
      </c:barChart>
      <c:catAx>
        <c:axId val="321105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8781"/>
        <c:crosses val="autoZero"/>
        <c:auto val="1"/>
        <c:lblAlgn val="ctr"/>
        <c:lblOffset val="100"/>
        <c:noMultiLvlLbl val="0"/>
      </c:catAx>
      <c:valAx>
        <c:axId val="69878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1105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B2F1-780B-4C92-A155-3B62E5B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CF57-2852-4423-B413-3B00D125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24B3-436A-47DD-8E2F-DF2CDE1A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AB9-97D3-4369-8031-8495A8EB9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DBBE-362B-4BA9-BBAE-9886599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AD5-413B-4B3B-89CD-25B5286C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4EBD-5F2D-497A-A2FE-0F7EF6DF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BF70-66FE-4AFC-B395-C20EA594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EACF-B641-407E-AA87-137B66FF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460-02AD-4634-B601-324C66CE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B70B-96AF-4F56-B856-38CF1D59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21BB-931C-4EBD-85E4-CB9F9CD3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883E8-A64E-4899-A5F7-E414AA5209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