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98214"/>
        <c:axId val="39055446"/>
      </c:barChart>
      <c:catAx>
        <c:axId val="58998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55446"/>
        <c:crosses val="autoZero"/>
        <c:auto val="1"/>
        <c:lblAlgn val="ctr"/>
        <c:lblOffset val="100"/>
        <c:noMultiLvlLbl val="0"/>
      </c:catAx>
      <c:valAx>
        <c:axId val="39055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98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BD5-5B78-4034-A0E0-CA85766A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8A8-0FBB-4512-ABFC-A271595D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9A34-E9CA-4FCC-AFF4-8E5DBA1A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D03-6AEA-4A6D-B473-F427BBF9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86F-96E4-4AC3-A894-AC9C05BC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41A-D5F3-4AFD-9DE4-D05BE42F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7AD-2110-4410-AC97-C4956DEB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598-3195-4D6A-B20B-516E182B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FAD-1FFE-466E-B165-538D4736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4DA-59DD-4825-B3B6-257443B3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072-917A-489D-8E89-2DCCA5CF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EDE-6EFA-4304-AA44-DBE4D2BE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BB8BD-1C07-40FB-8D70-32306267EC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